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35D-FA8C-4A65-8BD3-641EF593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B37-513E-4D78-A79F-4B3F2195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02D-A9A2-4C7B-A5D0-E483BD77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81B-D118-4513-A325-2F797492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579A-B957-4B50-AC95-573A7D50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EEAF-6795-4B6D-8669-263C6CFE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B00E-3F3E-4D50-B4FD-BA9068E1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878C-B3E6-4833-A34F-44FFAF3D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01AC-0D90-465D-B5A6-E5ABAA85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C81F-543F-4C73-8E13-9A202B5A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0AD1-2DFD-4E7C-809A-D93D8639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A9C-FC78-4AA6-B27B-3E352A86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A18A-C4A6-49DB-BDAF-20B861BD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8002-992E-463D-A529-B24172BB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5A30-B1AC-48A5-9FA8-64DA98BF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C920-A2D6-495C-97F7-F4E5D6EF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29D4-04EA-4E66-B8C0-74810107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8AE0-F233-4EF9-926E-F906BED6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47D9-5418-4AE0-9765-0BE88521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221D-2B5D-4A97-A85F-A4A79EDC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C951C-CDA8-4D07-B117-84D59117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86C7-3AEE-4F5E-A4EE-44226799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CCD-6F33-4A39-83D0-D7742342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D969-13B3-4B0C-81C2-31F2FC68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C07D-15D0-4830-8973-9DB30CC9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FC70-0E2D-450C-BF7E-F64E5899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1ABE5-363F-4DFF-A98E-1BD369C4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30891-D24E-47BC-8593-81D7A402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AAA7-F9BD-48AA-A84C-350C06D0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5246-0258-4C06-B5B5-7FEAB10C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574C-1A49-4C10-89D5-601AA5D5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3A6A4-BA81-4CCA-91E4-BAEF2B1F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81011-3E33-483F-A5FE-6B738360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15B-D53A-4CB9-83DB-517A7187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0B29A-D188-4121-9909-D847FDEA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6B460-6F85-49AA-B046-B6144E23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4F67A-7870-4ABD-8F18-45EBD8A0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9D44-48AE-47FA-9008-CBDD38BC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53B6-0E63-4BA2-BD95-6D8ADED3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3120-CB8B-4418-AAC5-3E58501B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8C74-0A3F-4A36-BA07-ADA390B7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42B7C-04B3-42DF-B51B-4F2EA2E8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EF04-A375-40E0-BFDC-27308454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92053-81CB-4D5F-95C4-C68863FD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167-134C-4ACA-9469-10C28F55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04542-3624-442D-BA6F-27F52157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0328C-81DD-4932-994F-3D77253C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48922-BDE3-41C7-BBA1-638336A7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13D84-841D-4069-B8FC-5B14D3BB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7682-4ABA-4665-AE55-A725001A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5CBD-638E-41CB-B7A7-02A98A46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F1FE1-A662-4A75-AD75-46F8881F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005EF-62BE-47BE-B886-7726D3A8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3A3E6-3130-44F8-9658-1F1B7857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7E37F-C82D-4CE5-BA31-5806DDE9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DBD-E276-47F9-A431-1376E50D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7928A-2C4F-4C22-A747-1A47487A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D784F-3EA2-4E58-B8A4-306A894B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40337-E9D9-4BB1-97F9-B1DFD6EB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C75C7-2E18-4D1C-8234-F4EBA77E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277AA-DBA0-4EE1-9E54-F35295AE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82F92-FDED-4BB1-8B49-C0D7393A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211B-9097-4E65-A97C-769681B4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27422-0B6A-45E5-B980-D3EFA2A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B7C7A-ADD3-4F6A-B723-A5F122FE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3973E-922B-46D2-8839-7FBD002B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A00-6562-47C7-B02A-0B010DBD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29AD9-2C49-4662-ACE8-8135976C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6E657-DF66-4DAA-B54A-DA99D0CA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3A8FF-F087-43FD-9E5C-7C6AFE2C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B4427-BBE6-431C-91C1-8B11295C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C1144-8E66-4BE2-A562-EC7DF1CE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F8C95-F45D-4B4E-9DE7-DBE42D73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FC285-B0D1-4D2A-8AC2-037DEC34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FB8E2-D83C-4237-A29A-E293BE92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9EA2E-2616-4E92-BC9A-A9E18F18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D64FC-CC70-42CE-AA4A-6C022A5E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FFB-45F5-4B51-9961-FA9CE4D1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55AA9-B2A1-41EA-8296-13A37C8D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ED5EB-D8A4-4B9E-A9E6-DEC27AD3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A886E-8349-4EA1-8968-4F959B7B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DAD54-371D-4E24-935C-711678DC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05847-6F57-4889-9933-58CFE437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268-F236-49C0-BA02-B1D7FF4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0C4A-CFD3-429E-98E0-F935BD2ED39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AF5F-216E-4EE2-A3BF-8961E2BD79A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4060-C6FA-4C7F-A06F-998ECE1A6B7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34C5-9931-4FD3-95C2-AB8F02B66D0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A374-0769-4B13-87B5-FE927820D08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4175-0C61-493D-8E42-279AC2F9BEA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1C26-59DC-4AF7-A0E1-04006F62780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t. Stephen Elementary School’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3" descr=""/>
          <p:cNvPicPr/>
          <p:nvPr/>
        </p:nvPicPr>
        <p:blipFill>
          <a:blip r:embed="rId1"/>
          <a:stretch/>
        </p:blipFill>
        <p:spPr>
          <a:xfrm>
            <a:off x="-36360" y="146160"/>
            <a:ext cx="2736720" cy="9936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018960" y="1742760"/>
            <a:ext cx="5921640" cy="4559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 there any more priz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68120" y="1730520"/>
            <a:ext cx="2468880" cy="4572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2"/>
          <p:cNvSpPr/>
          <p:nvPr/>
        </p:nvSpPr>
        <p:spPr>
          <a:xfrm>
            <a:off x="0" y="2438280"/>
            <a:ext cx="88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e can meet our learning goal of having each student move at least 3 levels on the pyramid , we can go to Fredericton , and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US KINGSWOOD PARK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4" descr="http://cosmic.mybusinessadmin.com/images/cosmiczone.jpg"/>
          <p:cNvPicPr/>
          <p:nvPr/>
        </p:nvPicPr>
        <p:blipFill>
          <a:blip r:embed="rId2"/>
          <a:stretch/>
        </p:blipFill>
        <p:spPr>
          <a:xfrm>
            <a:off x="81000" y="2971800"/>
            <a:ext cx="9063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promise t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Do our best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Always encourage other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Never give up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Content Placeholder 3" descr="ist2_876701-bee-cartoon.jpg"/>
          <p:cNvPicPr/>
          <p:nvPr/>
        </p:nvPicPr>
        <p:blipFill>
          <a:blip r:embed="rId2"/>
          <a:stretch/>
        </p:blipFill>
        <p:spPr>
          <a:xfrm>
            <a:off x="5181480" y="3884760"/>
            <a:ext cx="3429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3" descr="ist2_876701-bee-cartoon.jpg"/>
          <p:cNvPicPr/>
          <p:nvPr/>
        </p:nvPicPr>
        <p:blipFill>
          <a:blip r:embed="rId2"/>
          <a:stretch/>
        </p:blipFill>
        <p:spPr>
          <a:xfrm>
            <a:off x="2158920" y="2163600"/>
            <a:ext cx="482616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Do your best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Always encourage other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Never give up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Content Placeholder 3" descr="ist2_876701-bee-cartoon.jpg"/>
          <p:cNvPicPr/>
          <p:nvPr/>
        </p:nvPicPr>
        <p:blipFill>
          <a:blip r:embed="rId2"/>
          <a:stretch/>
        </p:blipFill>
        <p:spPr>
          <a:xfrm>
            <a:off x="4317840" y="3009960"/>
            <a:ext cx="4826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11" name="Diagram 1" descr=""/>
          <p:cNvPicPr/>
          <p:nvPr/>
        </p:nvPicPr>
        <p:blipFill>
          <a:blip r:embed="rId2"/>
          <a:srcRect l="-7849" t="-4917" r="-4607" b="-1645"/>
          <a:stretch/>
        </p:blipFill>
        <p:spPr>
          <a:xfrm>
            <a:off x="1752480" y="1066680"/>
            <a:ext cx="5334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39484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LL students move at least ONE level in our pyramid, we can celebrate with our first prize in November……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4" name="Content Placeholder 3" descr="ist2_876701-bee-cartoon.jpg"/>
          <p:cNvPicPr/>
          <p:nvPr/>
        </p:nvPicPr>
        <p:blipFill>
          <a:blip r:embed="rId2"/>
          <a:stretch/>
        </p:blipFill>
        <p:spPr>
          <a:xfrm>
            <a:off x="2286000" y="3962520"/>
            <a:ext cx="33782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grade threes will travel to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. Stephen High School auditorium for an afternoon movie WITH popcorn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http://executivepackage.com/~cubscout/images/popcorn-clipart.gif"/>
          <p:cNvPicPr/>
          <p:nvPr/>
        </p:nvPicPr>
        <p:blipFill>
          <a:blip r:embed="rId2"/>
          <a:stretch/>
        </p:blipFill>
        <p:spPr>
          <a:xfrm>
            <a:off x="2666880" y="3352680"/>
            <a:ext cx="29718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24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s there another  prize, Dan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0" name="Content Placeholder 3" descr="ist2_876701-bee-cartoon.jpg"/>
          <p:cNvPicPr/>
          <p:nvPr/>
        </p:nvPicPr>
        <p:blipFill>
          <a:blip r:embed="rId2"/>
          <a:stretch/>
        </p:blipFill>
        <p:spPr>
          <a:xfrm>
            <a:off x="2133720" y="2819520"/>
            <a:ext cx="4825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students move at least 2 levels in the pyramid by March…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can ALL go bowling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2" descr="http://www.philascottishrite.org/bowling_clipart_ball_banks.gif"/>
          <p:cNvPicPr/>
          <p:nvPr/>
        </p:nvPicPr>
        <p:blipFill>
          <a:blip r:embed="rId2"/>
          <a:stretch/>
        </p:blipFill>
        <p:spPr>
          <a:xfrm>
            <a:off x="2971800" y="3048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7:29:44Z</dcterms:created>
  <dc:creator>dist 10</dc:creator>
  <dc:description/>
  <dc:language>en-US</dc:language>
  <cp:lastModifiedBy>dist 10</cp:lastModifiedBy>
  <dcterms:modified xsi:type="dcterms:W3CDTF">2009-10-01T18:38:54Z</dcterms:modified>
  <cp:revision>5</cp:revision>
  <dc:subject/>
  <dc:title>Math Master Challenge</dc:title>
</cp:coreProperties>
</file>